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66B6-D7FC-4A45-9066-074B5DB5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2438-E9F7-479C-A529-8E7BE11A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8B66D-9050-444E-88F4-2F4A935E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C15B0-4EDF-47D4-BF3A-16DDF6D6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09D06-66A0-4382-878D-5E33E4D0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9CCF2-82E1-432A-A8C6-7D2543C2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5840D-BCD4-4999-9131-6B5437EE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224B3-87DA-4B62-B33B-5D7AF72B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65639-2D7F-4319-A151-7EF7B13D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4F218-507E-4E7D-801A-7E69F29F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6DE3C-CA0B-4822-889C-774E2E21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6861A-3731-47BD-B416-0F7BDAB2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AF2D-3F17-488A-A736-F4979DDE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EDF34-3CD5-41F0-83D4-BAC04768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C0C5D-3718-4CC4-AAD5-E371388A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70CE2-EB05-46C5-B821-087985A3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F3EE7-157C-406A-A4E3-DBE9BA69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5C019-CA5D-4315-B292-BB3C5C81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C7C52-3243-4F33-8FA0-179A85D8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09EE9-FEC7-4FBB-9D3E-23D09568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9BFF4-4453-46F1-9988-292E60D4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C8740-3D60-43EC-8D96-98C49145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0EA8B-469A-4320-969C-5828FC54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C30B-E3A8-4589-8307-C2BB465F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7F3BD-2AF1-4566-BC34-E999F2AE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81574-C314-466C-834F-8B007795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51E81-FA28-4C3B-9C6C-02E51A4D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0C422-F526-4D12-B8AF-854B7B42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82415-1B5E-4733-889E-D3F4DEE9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80676-0C14-4C4A-A960-3781558C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C9195-870B-424C-B58C-F8DEAAE7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3A7FE-CBC8-4472-B959-E3C77743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2D208-6621-4B4A-ABBE-DAF4917B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AAB38-03B7-4C86-AF6F-F707636C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C545-5EA3-48B3-8CAD-7E152DC3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086B1-CD9E-4E68-A0C4-616B8B43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79661-3E01-4459-9864-45502EC2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FD20E-D6F9-4EFF-8665-E6189BCD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0FB63-4D12-42FB-A0AC-1316591D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F16CD-2719-4DFE-BFA3-1233F6C1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04616-68FA-4FCB-859D-E25C023D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765EE-BF42-4ED8-B567-1B7B3396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90515-725E-4046-BC06-8012E226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3981A-BE52-44C9-B5C8-DAB3474C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F59BA-3155-4E74-BC77-15F4411B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92B9-1388-4782-AFD8-5FD41F62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03483-92ED-4046-B900-41D4AF42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2F092-7BC2-439E-8176-3D331BCB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50B1F-1276-4023-AC59-E3F71D9E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04369-CA71-4ABE-B6D4-BBC68BCD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FD3CD-1063-4069-B959-DF63F181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AAB8D8-BB18-4B42-B145-8E15F169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E91460-D974-4F3A-87D4-B4753DBC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5B1A32-47FF-4A02-803D-50A8EE20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848CC7-57C9-4DC6-8526-5E7EDE0F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345436-F8DD-49A5-9FD9-21ED8790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BE25-3722-4327-8CC1-2F058C74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60944A-77BB-4127-B2FE-F2C4F76D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E62853-6D14-4E96-95D5-840779C5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C6A419-4A0E-46FE-8BD1-CB95A155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87B4D0-427A-4BEA-9831-598E59C1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CE896-5E89-4A41-BA46-204B566C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09E8ED-4CF9-4B83-9E21-08179233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D2A71C-415F-4C3D-B893-61932F71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27E0E6-0CA7-408F-A587-87C9AF46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9F649C-0C78-49FC-9D28-16419E4B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78395F-6DF8-410C-A0FD-22E375AA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E8F6-5CCB-4993-B089-39F9592C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00057B-3ECE-4514-ACB6-0AF9D0A9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C9ED8A-15D6-45FB-82CA-EA03EE15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0CF15E-5EEE-4981-B24E-652181CF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55093D-E013-45DB-82C8-EDA3DF5D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5CB3C7-B089-41E8-A65E-19B98921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4AB26B-DD4D-40F3-892F-F67D91AC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52339F-608A-4A58-954D-D3CD82A5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3DB036-C849-4E62-AB0C-0F55A2DC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5CF95F-2830-4039-93EC-C6BA96B3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01E1FD-5D48-480E-8FFD-CB35E04C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49EA-C2B7-4D71-AE89-15F6BD1A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3B5868-76B9-4BBC-A087-059F8BB5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8194BD-F44A-4ADA-A0AB-584B610A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D578DF-4A85-44B6-ABDD-6D246308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B4667E-2547-49AB-B129-1506BDC0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FF80D3-0913-4528-B928-1AEFDED3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C114C2-FBE2-413D-9A6C-5D7A3209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166AF3-3241-40DA-ABD2-AA7F6B9E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786064-E11F-4057-81B8-B7ECF387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94B164-804D-4C4A-B3EF-57BA3681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D6ABDD-CA45-4D79-BE5E-64C5A89C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C0C9-0BEB-42B1-8290-0669E683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5D85C9-3143-4849-AB0D-6377D7F8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9BEF9D-E374-446B-B099-B45F5092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4F7E09-C3ED-4411-8D54-D3519240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A88248-2629-4A27-B3A8-B348801B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0E11E1-E139-4842-BA3D-CDB3C98B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95267B-1914-4800-9D54-C85225D7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ABCD9A-7CCA-42A1-B0D4-6F110A0F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092577-21B4-4A61-8AB0-8C85DACC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E97969-BF20-4248-BCB0-88367C94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C3FA7E-0C32-4E2F-BFF5-49011AD8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AF8A-551F-44C9-9294-104395E0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DC58EB-3031-4EF9-BFD6-1076F902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5F16E2-990B-4459-AF4F-D5187E50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1E9034-06B1-4A68-BA3C-7740ADB0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C28226-58CD-4052-A464-723E61A9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07E9F4-51BA-4A8C-B94E-C03090B9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739322-17DB-47C2-9453-775D235B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623DC2-EDF6-44B7-8708-C0B7E6AC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5D3623-AF17-4811-B270-D190431F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06261A-57A3-41DB-A9EC-EBC31F88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B40355-8625-47DE-9449-63102B39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F5BA-179B-4060-ACD2-A54F1C9E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88D9-4DC3-494E-B47D-0DF4A1C6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78CE20-05D4-41BC-B53D-CA4F8911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7DBD50-4642-468E-8051-3E5F7FA7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784998-1752-4B8C-93E7-BD994607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911178-A779-4941-901D-CE0629A3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110349-40AF-4889-9370-BE2C2A2F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F4CD92-934E-4DF9-8DA5-4655E345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7BDFFC-7EE6-4DF3-9D3F-B9D215E0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47FE09-7414-43B8-8788-94B7F507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A9002C-08A0-4F0D-8198-81AFD7E6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0CF491-F0F0-4F3A-A168-E19D8DCD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733B-FF74-4173-BA1F-4A6AFEEE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0937B2-92E4-4612-9950-A96894A2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6660FF-44CF-4AC4-BD09-E7EDD1B1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A0381B-7666-4144-9D9A-5505D232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88542B-93CE-461C-8776-34E25AF1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61E706-DFDB-4510-A059-0419C498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F68580-53BE-4B1A-9ADD-A4B7AF8F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65F9A6-FD16-4843-9025-FA99FEED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CC8795-10C7-45EA-9290-876C09F8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37DD26-E2A4-4DA4-917E-989C01CC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9C1176-0BEE-4911-98E4-604967DB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2231-CC91-44A6-A752-3FA0CAAE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52EBA0-A04E-40B7-93E4-886E1B97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6F13B7-CC10-4808-9C7F-90EE12FC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8D9465-00CB-49B1-8081-03A9D2EB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BD3366-61A1-41DB-9FA8-69CF2208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4EBB2C-6BB0-49B8-A187-72E72879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66C6BD-5254-40F7-A280-0BD34376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990679-3FB1-4B89-96F4-A5964E46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4A8895-1EA2-4A18-9B06-8F8A5495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845B2D-65A9-42EE-AE6D-38EFA52C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75C7ED-3B94-4D8B-8C0A-66B1C840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C4A4-251C-443D-9F2D-5F0FE6BA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B1AB46-B5FF-479D-97A5-FCCFE61C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20CE7A-3381-4270-89AB-2E04F928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539C7E-D793-4843-AA9D-90C5F16B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C548BB-EFD4-4B22-9F1A-BFE1FD29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FB26B2-C64B-4D00-8FA1-84CC047E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9C05DE-1447-4E60-A8C2-C7F19F9C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308A2E-BF51-468C-A432-1FB6E37B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0CA0C4-6B06-4EB4-AC9C-5F38AEC8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EABE97-4784-4176-B32A-1AC3FDF4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728E18-5AAD-4553-95F3-50BB3E76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98AB-C63C-44BA-9638-7E11AC197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015A2F-8380-4F7D-98F3-FA76EAF4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C83399-42E1-4DB0-8266-7FFB4F76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FDB822-5243-4616-A33B-F3D8E977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A834FB-4FA8-448A-BDBE-633A13B9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081354-F7A1-450F-999E-188323B2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72AD82-5382-4C87-948D-D4202256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E25198-FEEF-4B90-A2CA-C98A25EA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E73C4D-CC88-4454-86AC-209E3BBA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088241-35B3-4180-8839-EF676B71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C9211A-CE96-4BCA-8CE5-9643ED5D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2AC93-265C-498F-AF65-7738A1F3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E63555-A500-4A20-8C38-B5C757B3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CCF420-40E0-4800-B5F6-2B82924C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59D72F-2AFD-4FEF-8D28-B8DA7287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224E2-DA83-42E6-BC79-11416575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15707-EAD9-4DCF-B427-FACA1D22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947E1-72E0-49CC-9E4D-59E113B3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B8E1B-CFB7-487D-8E59-21E4BCBF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F7E6-FC50-480F-8882-A124F717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3497F-0D2C-4839-B6EB-93F5DD23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DFD85-6FC2-46B2-B71C-93F3BFCD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876EC-48D4-45AF-8F6E-75D7C414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67071-08EE-4944-81A6-66075B49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9F1EE-F52B-43E3-B10C-4857B6E5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086F0-B12A-4EAE-BE45-CD17C2E4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64C00-ED70-4D58-98BF-1895C9CA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E8E95-CD8E-4267-A195-02D77AC0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13A71-0412-4A51-B2C6-61E15988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A97AD-7582-47FC-895D-646B7F99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F226-6C34-4C01-B0F1-0EF631CC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15B3E-200E-4B0B-8852-14D0D5FA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330A2-A983-44DD-A09C-B9B4CE2A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D4717-2189-4DBE-AA30-F5EAC0E3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FBAF5-C45B-4918-9A91-ECB18F29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B1ACE-2E4C-4470-857E-51119B0F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20239-4567-4316-B496-9F270929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743DC-EE21-4AB0-92CF-4D1136F1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530CB-0063-46C4-AE6A-014A9168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6D14E-B24C-4C0B-920C-4392CAB57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54BC0-5CFB-49C2-97EE-6E30F23F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25C6-73B2-45CE-98C4-F31D52C3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46117-ADA9-47E6-B71F-0640D7B0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B9B4D-6F25-4A38-95D5-EF65C6AE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178A7-1870-4BDE-B7C8-4385CDA6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A34F5-0E99-41CD-90F9-78941079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4DCE9-6E78-4499-83C5-EC28A198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D9DC2-8F93-48D7-9F1C-244689B4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C5892-5017-4DB2-B226-A6449F9A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9BA73-0EF5-492E-BF35-913C3B3A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BA173-3274-4B4F-9585-9CE07C14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47408-6448-49CB-8EE9-F431D363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7678-9B02-4DAB-807B-59741309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71024-F423-4484-9351-BD421CDB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C6CED-A16D-45BF-93CA-272957BA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483A3-21E2-4AB6-A3F2-2AD380D2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310D9-4132-4371-A034-7D77B8AA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5E59F-09EB-4EC6-9477-4A2A0701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31A3C-79DB-43D4-830A-DC7BEC91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3C422-3909-4682-8193-14994335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CA851-32FA-4A2D-839F-AE275EE1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7AE86-6DF9-44ED-983F-7CAF9FE2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675AC-0941-4F56-A130-7DFC5F32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D5A3-5934-430E-BF4B-036BAE2C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03D04-557F-4C11-8890-67145A78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08873-8516-460E-B416-B6887185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133FE-F549-4901-B56A-9EFACC1F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2342C-E0C6-405D-9ABD-688C5BEC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19D14-3764-472D-AEE2-4187D433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C2B80-D0AB-41E4-964F-EB7E0D66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4193F-DBBC-4B9A-8311-84A4244C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7BDE4-192E-4498-A283-88CF2128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6D83C-B324-43E8-B494-787E96C9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E0410-C68D-44F2-A461-5AAAF89B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C64F-7F0B-4620-B23A-B2D92E47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AA5EE-5646-4C75-BB34-909EC15A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87E19-1022-4A55-AE47-E08D93D5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6E4FF-9C41-4A19-ACE0-D0DEFF10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080B9-64C3-48D1-8A68-3C72C019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EADFE-857E-4E96-8149-D0DF919C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D9065-1774-4843-ABE3-31A29F06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65084-7B90-4FEC-A468-F367DDED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F3222-14C3-46A4-A4E0-DF5716EE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46B26-18F5-42D3-B227-78713EAB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269F0-F6F9-4768-B0A7-A9B7AC86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4CED-59E5-442E-9674-B809A674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75AE0-78B3-46F6-B7D8-EC5B819D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1CC2C-A91D-4704-B984-186FD150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2A10D-79BA-43B3-8AA7-51F5D794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EE6C8-D6B4-479B-8DE0-3AFCDE9B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F6A5A-9046-4E4F-8316-2E916397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DBFAD-BAC3-490A-B420-5AD7EB01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CC06A-F947-4439-8FDC-AD970ADA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D1955-EFF0-49D2-AD9B-4DF14F30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A1D17-0F09-46DA-94EE-5B47C06B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B37CF-CBBE-49E1-BF51-D405236D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C9ED-322B-4FE3-878C-B86B245F18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79F6-53AB-4730-B2C6-0432AD9F6F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7557-AEE3-4414-BAD7-4542F98AF9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843F-E825-4201-B52D-D41D980CA0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6277-D8D5-4D0C-AE0F-F721C707A0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572D-8352-45D3-92AF-341AD40671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FF4E-AECD-40D3-9711-826F927155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3C3D-7C80-44FB-9905-68461ED737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E00B-996E-4EF3-9463-CDAD4D4F9B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0EB6-60B3-4DC2-8C89-4FB29E8895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AF76-46EF-4E22-BAC0-50DA139878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D452-37DE-4EFA-8B1F-3D8D2C44DB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A7AC-3FB4-420A-8DC5-BE1C466D02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6FCC-7130-4406-8DFA-94CCBADB2A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BF95-8EC1-4078-A009-25717BC29D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6B2B-D41C-4653-B55F-71761D4FE5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6686-8EEE-485F-BE0C-E6370DE3D6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1406-DBEE-471E-B3A8-AB2DC6712C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A14B-D34A-4CC6-8EE3-A94679E5BE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858D-B882-47E7-860C-3ECBA71B5B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CB0B-15A1-406D-9D1B-034CEEFB60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50B0-4678-49F1-9C4A-DED292DD70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2335-5154-4B38-9057-9A09D2AE20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1AA3-62C8-4129-9428-46970581EF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5820-9AA3-463D-A9C6-3814FCCCF1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0D01-A2BE-41D4-BB26-22DBA1F742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2B66-6FED-408C-AE72-7920474280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7E22-AB58-4273-AE16-12E73B1729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6B27-F9DD-4320-BF28-8310923A29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D17B-2961-4897-BF98-9FC583722B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0D79-61E0-4AAC-B60A-6A3AA90243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71CB-E4CC-4CB8-A354-CB5E674788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E72A-E7BF-475A-A73E-6A02B79DDE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A378-BCEC-4BE6-B226-E6D89F8CD0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F78D-3609-4053-99E9-EDDDBDF8E5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6112-EC73-4A4A-BFD9-FBF2A51C31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987F-3357-4946-A35D-451E5A0781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E180-791C-4926-A5CE-6F7B3A9B10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2797-E1F2-4228-84B5-9BC73EB1BC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86CC-C7C0-43D5-8E9D-771DDCCAE5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05000" y="3143160"/>
            <a:ext cx="47340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80880" y="1814400"/>
            <a:ext cx="8382240" cy="32292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195640" y="29242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419640" y="3232080"/>
            <a:ext cx="647640" cy="3207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411280" y="3635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924360" y="3645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1692360" y="3995640"/>
            <a:ext cx="647640" cy="3207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2411280" y="4302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3924360" y="43498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1619280" y="4672080"/>
            <a:ext cx="720720" cy="3207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6535800" y="3284640"/>
            <a:ext cx="503280" cy="320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6362640" y="3860640"/>
            <a:ext cx="503280" cy="3207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8110440" y="3860640"/>
            <a:ext cx="503280" cy="3207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7299360" y="4653000"/>
            <a:ext cx="503280" cy="3207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6507000" y="4437000"/>
            <a:ext cx="503280" cy="3207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8008920" y="4508640"/>
            <a:ext cx="50328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9410" descr=""/>
          <p:cNvPicPr/>
          <p:nvPr/>
        </p:nvPicPr>
        <p:blipFill>
          <a:blip r:embed="rId1"/>
          <a:stretch/>
        </p:blipFill>
        <p:spPr>
          <a:xfrm>
            <a:off x="157320" y="57240"/>
            <a:ext cx="8829360" cy="67435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3203640" y="476280"/>
            <a:ext cx="647640" cy="3207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3429000" y="836640"/>
            <a:ext cx="647640" cy="3207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3203640" y="1187280"/>
            <a:ext cx="647640" cy="3207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3203640" y="1547640"/>
            <a:ext cx="647640" cy="3207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6"/>
          <a:stretch/>
        </p:blipFill>
        <p:spPr>
          <a:xfrm>
            <a:off x="2916360" y="5445000"/>
            <a:ext cx="647640" cy="3207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7"/>
          <a:stretch/>
        </p:blipFill>
        <p:spPr>
          <a:xfrm>
            <a:off x="6084720" y="5445000"/>
            <a:ext cx="648000" cy="3207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8"/>
          <a:stretch/>
        </p:blipFill>
        <p:spPr>
          <a:xfrm>
            <a:off x="1239840" y="5772240"/>
            <a:ext cx="647640" cy="3207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9"/>
          <a:stretch/>
        </p:blipFill>
        <p:spPr>
          <a:xfrm>
            <a:off x="2700360" y="6156360"/>
            <a:ext cx="647640" cy="3207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0"/>
          <a:stretch/>
        </p:blipFill>
        <p:spPr>
          <a:xfrm>
            <a:off x="6588000" y="6165720"/>
            <a:ext cx="648000" cy="3207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1"/>
          <a:stretch/>
        </p:blipFill>
        <p:spPr>
          <a:xfrm>
            <a:off x="2411280" y="6527880"/>
            <a:ext cx="64800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8373" descr=""/>
          <p:cNvPicPr/>
          <p:nvPr/>
        </p:nvPicPr>
        <p:blipFill>
          <a:blip r:embed="rId1"/>
          <a:stretch/>
        </p:blipFill>
        <p:spPr>
          <a:xfrm>
            <a:off x="119160" y="2367000"/>
            <a:ext cx="8905680" cy="21240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2320920" y="2800440"/>
            <a:ext cx="666720" cy="3207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2268360" y="3151080"/>
            <a:ext cx="667080" cy="3207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2268360" y="3510000"/>
            <a:ext cx="667080" cy="3207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2771640" y="3870360"/>
            <a:ext cx="66672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0:55:2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